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7131050" cy="9417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E192-4BD5-4C06-AD1B-B0F4D761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606276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5672520"/>
            <a:ext cx="606276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9235-79DB-437F-BFAD-E38E9DBD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414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5672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41400" y="5672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BF20-5B39-47DE-85A5-EADE76D5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84440" y="2720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34280" y="2720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5672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84440" y="5672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34280" y="5672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4291-036D-4605-A262-F111B581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2720520"/>
            <a:ext cx="60627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07E8-FF72-4ECB-8A1E-AF3F0D00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606276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DBD-9F16-4B41-9B76-E574B73C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295848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41400" y="2720520"/>
            <a:ext cx="295848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2471-7FB1-4860-961B-2CD413F6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DB4-ADE3-4ED2-ABC1-80006263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836280"/>
            <a:ext cx="6062760" cy="72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9FD-830C-4C77-8C86-21F7A269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400" y="2720520"/>
            <a:ext cx="295848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5672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E85-724D-46E0-9A36-31666D37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295848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4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41400" y="5672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6C94-EF25-40ED-B091-7DC4D0CB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4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5672520"/>
            <a:ext cx="606276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979-6A94-4F08-9426-3461AE8C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2720520"/>
            <a:ext cx="606276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3880" indent="-3538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2952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-236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5640" indent="-236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2724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2724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2724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8582040"/>
            <a:ext cx="1486080" cy="627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6480" y="8582040"/>
            <a:ext cx="2259000" cy="627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11640" y="8582040"/>
            <a:ext cx="1486080" cy="627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6DF1-736B-4354-8C33-5C2502A61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4529160" y="235080"/>
          <a:ext cx="2433600" cy="13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9160" y="235080"/>
                    <a:ext cx="243360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5"/>
          <p:cNvSpPr/>
          <p:nvPr/>
        </p:nvSpPr>
        <p:spPr>
          <a:xfrm>
            <a:off x="158760" y="392040"/>
            <a:ext cx="4280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cientist_____________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554040" y="941400"/>
            <a:ext cx="36464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amoufl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(Birds and Butterfli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Object 7"/>
          <p:cNvGraphicFramePr/>
          <p:nvPr/>
        </p:nvGraphicFramePr>
        <p:xfrm>
          <a:off x="-5154480" y="3048120"/>
          <a:ext cx="4711680" cy="31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5154480" y="3048120"/>
                    <a:ext cx="471168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Text Box 9"/>
          <p:cNvSpPr/>
          <p:nvPr/>
        </p:nvSpPr>
        <p:spPr>
          <a:xfrm>
            <a:off x="1822320" y="1647720"/>
            <a:ext cx="28530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nsect Grap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80880" y="4343400"/>
            <a:ext cx="649764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most____________________ins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least____________________ins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76280" y="6435720"/>
            <a:ext cx="5943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228600" y="5562720"/>
            <a:ext cx="657684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Camouflage Mean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13"/>
          <p:cNvGraphicFramePr/>
          <p:nvPr/>
        </p:nvGraphicFramePr>
        <p:xfrm>
          <a:off x="4038480" y="8110440"/>
          <a:ext cx="2433600" cy="130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8110440"/>
                    <a:ext cx="243360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14"/>
          <p:cNvGraphicFramePr/>
          <p:nvPr/>
        </p:nvGraphicFramePr>
        <p:xfrm>
          <a:off x="838080" y="8110440"/>
          <a:ext cx="2433600" cy="130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8110440"/>
                    <a:ext cx="243360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5"/>
          <p:cNvSpPr/>
          <p:nvPr/>
        </p:nvSpPr>
        <p:spPr>
          <a:xfrm>
            <a:off x="609480" y="8001000"/>
            <a:ext cx="2854440" cy="14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3886200" y="8001000"/>
            <a:ext cx="2852640" cy="14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609480" y="7620120"/>
            <a:ext cx="2616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3962520" y="762012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9"/>
          <p:cNvSpPr/>
          <p:nvPr/>
        </p:nvSpPr>
        <p:spPr>
          <a:xfrm rot="5359800">
            <a:off x="5088960" y="755784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Cheryl Arford,Edmonds School Di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380880" y="4267080"/>
            <a:ext cx="5562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2057400" y="4419720"/>
            <a:ext cx="3581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1523880" y="35053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       2      3     4      5      6      7  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24"/>
          <p:cNvGraphicFramePr/>
          <p:nvPr/>
        </p:nvGraphicFramePr>
        <p:xfrm>
          <a:off x="689040" y="2075040"/>
          <a:ext cx="6392880" cy="17049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4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9040" y="2075040"/>
                    <a:ext cx="639288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Line 28"/>
          <p:cNvSpPr/>
          <p:nvPr/>
        </p:nvSpPr>
        <p:spPr>
          <a:xfrm>
            <a:off x="2438280" y="5638680"/>
            <a:ext cx="42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0"/>
          <p:cNvSpPr/>
          <p:nvPr/>
        </p:nvSpPr>
        <p:spPr>
          <a:xfrm>
            <a:off x="304920" y="624852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1"/>
          <p:cNvSpPr/>
          <p:nvPr/>
        </p:nvSpPr>
        <p:spPr>
          <a:xfrm>
            <a:off x="304920" y="678168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3"/>
          <p:cNvGraphicFramePr/>
          <p:nvPr/>
        </p:nvGraphicFramePr>
        <p:xfrm>
          <a:off x="4529160" y="235080"/>
          <a:ext cx="2433600" cy="13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9160" y="235080"/>
                    <a:ext cx="243360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4"/>
          <p:cNvSpPr/>
          <p:nvPr/>
        </p:nvSpPr>
        <p:spPr>
          <a:xfrm>
            <a:off x="158760" y="392040"/>
            <a:ext cx="4280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cientist_____________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54040" y="941400"/>
            <a:ext cx="36464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amoufl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(Birds and Butterfli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6"/>
          <p:cNvGraphicFramePr/>
          <p:nvPr/>
        </p:nvGraphicFramePr>
        <p:xfrm>
          <a:off x="-5154480" y="3048120"/>
          <a:ext cx="4711680" cy="31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5154480" y="3048120"/>
                    <a:ext cx="471168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7"/>
          <p:cNvSpPr/>
          <p:nvPr/>
        </p:nvSpPr>
        <p:spPr>
          <a:xfrm>
            <a:off x="1822320" y="1647720"/>
            <a:ext cx="28530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nsect Grap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80880" y="4343400"/>
            <a:ext cx="649764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most____________________ins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least____________________ins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76280" y="6435720"/>
            <a:ext cx="5943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228600" y="5562720"/>
            <a:ext cx="657684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Camouflage Mean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11"/>
          <p:cNvGraphicFramePr/>
          <p:nvPr/>
        </p:nvGraphicFramePr>
        <p:xfrm>
          <a:off x="4038480" y="8110440"/>
          <a:ext cx="2433600" cy="130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8110440"/>
                    <a:ext cx="243360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2"/>
          <p:cNvGraphicFramePr/>
          <p:nvPr/>
        </p:nvGraphicFramePr>
        <p:xfrm>
          <a:off x="838080" y="8110440"/>
          <a:ext cx="2433600" cy="130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8110440"/>
                    <a:ext cx="243360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13"/>
          <p:cNvSpPr/>
          <p:nvPr/>
        </p:nvSpPr>
        <p:spPr>
          <a:xfrm>
            <a:off x="609480" y="8001000"/>
            <a:ext cx="2854440" cy="14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3886200" y="8001000"/>
            <a:ext cx="2852640" cy="14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09480" y="7620120"/>
            <a:ext cx="2616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3962520" y="762012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 rot="5359800">
            <a:off x="5088960" y="755784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Cheryl Arford,Edmonds School Di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380880" y="4267080"/>
            <a:ext cx="5562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2057400" y="4419720"/>
            <a:ext cx="3581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2"/>
          <p:cNvSpPr/>
          <p:nvPr/>
        </p:nvSpPr>
        <p:spPr>
          <a:xfrm>
            <a:off x="2438280" y="5638680"/>
            <a:ext cx="42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3"/>
          <p:cNvSpPr/>
          <p:nvPr/>
        </p:nvSpPr>
        <p:spPr>
          <a:xfrm>
            <a:off x="304920" y="624852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304920" y="678168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25"/>
          <p:cNvGraphicFramePr/>
          <p:nvPr/>
        </p:nvGraphicFramePr>
        <p:xfrm>
          <a:off x="836640" y="2347920"/>
          <a:ext cx="5549760" cy="13176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93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6640" y="2347920"/>
                    <a:ext cx="554976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27"/>
          <p:cNvSpPr/>
          <p:nvPr/>
        </p:nvSpPr>
        <p:spPr>
          <a:xfrm>
            <a:off x="1204920" y="3490920"/>
            <a:ext cx="47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      2     3     4     5     6    7     8    9    10    11    12   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58760" y="392040"/>
            <a:ext cx="4280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cientist_____________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54040" y="941400"/>
            <a:ext cx="36464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amoufl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(Birds and worm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6"/>
          <p:cNvGraphicFramePr/>
          <p:nvPr/>
        </p:nvGraphicFramePr>
        <p:xfrm>
          <a:off x="-5154480" y="3048120"/>
          <a:ext cx="471168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154480" y="3048120"/>
                    <a:ext cx="471168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7"/>
          <p:cNvSpPr/>
          <p:nvPr/>
        </p:nvSpPr>
        <p:spPr>
          <a:xfrm>
            <a:off x="1822320" y="1647720"/>
            <a:ext cx="28530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Worm Grap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380880" y="4343400"/>
            <a:ext cx="649764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most____________________w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least____________________w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76280" y="6435720"/>
            <a:ext cx="5943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28600" y="5562720"/>
            <a:ext cx="657684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Camouflage Mean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595440" y="7529400"/>
            <a:ext cx="286848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3871800" y="7529400"/>
            <a:ext cx="286704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09480" y="7620120"/>
            <a:ext cx="2616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3948120" y="760572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380880" y="4267080"/>
            <a:ext cx="5562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2057400" y="4419720"/>
            <a:ext cx="3581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1523880" y="35053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       2      3     4      5      6      7  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21"/>
          <p:cNvGraphicFramePr/>
          <p:nvPr/>
        </p:nvGraphicFramePr>
        <p:xfrm>
          <a:off x="976320" y="2043000"/>
          <a:ext cx="6392880" cy="170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6320" y="2043000"/>
                    <a:ext cx="639288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Line 22"/>
          <p:cNvSpPr/>
          <p:nvPr/>
        </p:nvSpPr>
        <p:spPr>
          <a:xfrm>
            <a:off x="2438280" y="5638680"/>
            <a:ext cx="42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3"/>
          <p:cNvSpPr/>
          <p:nvPr/>
        </p:nvSpPr>
        <p:spPr>
          <a:xfrm>
            <a:off x="304920" y="624852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304920" y="678168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5" descr="BD07377_[1]"/>
          <p:cNvPicPr/>
          <p:nvPr/>
        </p:nvPicPr>
        <p:blipFill>
          <a:blip r:embed="rId5">
            <a:grayscl/>
          </a:blip>
          <a:stretch/>
        </p:blipFill>
        <p:spPr>
          <a:xfrm>
            <a:off x="5014800" y="290520"/>
            <a:ext cx="1800360" cy="1485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6" descr="BD07377_[1]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4329000" y="7932600"/>
            <a:ext cx="1800360" cy="1486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BD07377_[1]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1281240" y="7932600"/>
            <a:ext cx="1800000" cy="1486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0"/>
          <p:cNvSpPr/>
          <p:nvPr/>
        </p:nvSpPr>
        <p:spPr>
          <a:xfrm rot="5359800">
            <a:off x="5088960" y="755784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Cheryl Arford,Edmonds School Di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58760" y="392040"/>
            <a:ext cx="4280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cientist_____________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54040" y="941400"/>
            <a:ext cx="36464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amoufl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(Birds and worm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5"/>
          <p:cNvGraphicFramePr/>
          <p:nvPr/>
        </p:nvGraphicFramePr>
        <p:xfrm>
          <a:off x="-5154480" y="3048120"/>
          <a:ext cx="471168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154480" y="3048120"/>
                    <a:ext cx="471168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6"/>
          <p:cNvSpPr/>
          <p:nvPr/>
        </p:nvSpPr>
        <p:spPr>
          <a:xfrm>
            <a:off x="1890720" y="1738440"/>
            <a:ext cx="27766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Worm Grap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80880" y="4343400"/>
            <a:ext cx="649764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most____________________w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least____________________w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76280" y="6435720"/>
            <a:ext cx="5943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28600" y="5562720"/>
            <a:ext cx="657684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Camouflage Mean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95440" y="7529400"/>
            <a:ext cx="286848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3871800" y="7529400"/>
            <a:ext cx="286704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09480" y="7620120"/>
            <a:ext cx="2616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3948120" y="760572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380880" y="4267080"/>
            <a:ext cx="5562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2057400" y="4419720"/>
            <a:ext cx="3581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1357200" y="3110040"/>
            <a:ext cx="47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      2     3     4     5     6    7     8    9    10    11    12   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2438280" y="5638680"/>
            <a:ext cx="42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9"/>
          <p:cNvSpPr/>
          <p:nvPr/>
        </p:nvSpPr>
        <p:spPr>
          <a:xfrm>
            <a:off x="304920" y="624852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0"/>
          <p:cNvSpPr/>
          <p:nvPr/>
        </p:nvSpPr>
        <p:spPr>
          <a:xfrm>
            <a:off x="304920" y="678168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1" descr="BD07377_[1]"/>
          <p:cNvPicPr/>
          <p:nvPr/>
        </p:nvPicPr>
        <p:blipFill>
          <a:blip r:embed="rId3">
            <a:grayscl/>
          </a:blip>
          <a:stretch/>
        </p:blipFill>
        <p:spPr>
          <a:xfrm>
            <a:off x="5014800" y="290520"/>
            <a:ext cx="1800360" cy="1485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2" descr="BD07377_[1]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29000" y="7932600"/>
            <a:ext cx="1800360" cy="14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BD07377_[1]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1281240" y="7932600"/>
            <a:ext cx="1800000" cy="1486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4"/>
          <p:cNvSpPr/>
          <p:nvPr/>
        </p:nvSpPr>
        <p:spPr>
          <a:xfrm rot="5359800">
            <a:off x="5088960" y="755784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Cheryl Arford,Edmonds School Di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1052640" y="3414600"/>
            <a:ext cx="49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umber of W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7"/>
          <p:cNvSpPr/>
          <p:nvPr/>
        </p:nvSpPr>
        <p:spPr>
          <a:xfrm rot="16200000">
            <a:off x="-371880" y="2629080"/>
            <a:ext cx="20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lor of 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29"/>
          <p:cNvGraphicFramePr/>
          <p:nvPr/>
        </p:nvGraphicFramePr>
        <p:xfrm>
          <a:off x="976320" y="2271600"/>
          <a:ext cx="5514840" cy="1308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4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6320" y="2271600"/>
                    <a:ext cx="551484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0:13:17Z</dcterms:created>
  <dc:creator>Preferred Customer</dc:creator>
  <dc:description/>
  <dc:language>en-US</dc:language>
  <cp:lastModifiedBy>Mark Roddy</cp:lastModifiedBy>
  <cp:lastPrinted>2013-12-30T18:22:30Z</cp:lastPrinted>
  <dcterms:modified xsi:type="dcterms:W3CDTF">2015-09-28T19:03:00Z</dcterms:modified>
  <cp:revision>13</cp:revision>
  <dc:subject/>
  <dc:title>No Slide Title</dc:title>
</cp:coreProperties>
</file>